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3.png" ContentType="image/png"/>
  <Override PartName="/ppt/media/image17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7DD5-B35D-4A88-ABB0-8DC1FD90513F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399D-1CFA-406C-AB3A-5699256B2DA4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697E-78A2-456B-BF28-A0C47DBE74DA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4D73-8436-42C9-A718-7CD58873C5AE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BEE3-A904-4338-8CF3-5751404C0A82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2019-5CA6-4389-A162-B93E42587B1B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239F-BC48-49FA-A5E5-15238B502C25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4E28-F1B7-480A-843C-3AD15D04B3EB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96FF-104F-4B34-9FC3-B1CF0741AE73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6E19-5BB3-4F56-989D-E1D1AD054E43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04E2-ACCA-4F5C-B29E-D4B34CE6834C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E6F5-3C5C-49BE-9024-9BB6673A31AB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1F38-633D-4773-8423-A973D44C2940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4820-BFDC-4004-873C-A908FDB65779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BBFF-6E19-4DB5-96BC-3A94C03798FE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7FE8-A8DB-440D-8B35-5CD52D10C3BA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F008-918A-47CB-A76D-5CB3070B91D7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39FC-A01B-40DF-8C5A-C50AD139CDE8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3560"/>
            <a:ext cx="6356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3120" y="682200"/>
            <a:ext cx="73440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3120" y="2769480"/>
            <a:ext cx="73440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3560"/>
            <a:ext cx="6356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3120" y="682200"/>
            <a:ext cx="35838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66560" y="682200"/>
            <a:ext cx="35838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3120" y="2769480"/>
            <a:ext cx="35838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66560" y="2769480"/>
            <a:ext cx="35838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3560"/>
            <a:ext cx="6356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3120" y="682200"/>
            <a:ext cx="236448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86040" y="682200"/>
            <a:ext cx="236448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69320" y="682200"/>
            <a:ext cx="236448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3120" y="2769480"/>
            <a:ext cx="236448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86040" y="2769480"/>
            <a:ext cx="236448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69320" y="2769480"/>
            <a:ext cx="236448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3560"/>
            <a:ext cx="6356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3120" y="682200"/>
            <a:ext cx="73440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3560"/>
            <a:ext cx="6356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3120" y="682200"/>
            <a:ext cx="73440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3560"/>
            <a:ext cx="6356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3120" y="682200"/>
            <a:ext cx="35838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66560" y="682200"/>
            <a:ext cx="35838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3560"/>
            <a:ext cx="6356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88560"/>
            <a:ext cx="635616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3560"/>
            <a:ext cx="6356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3120" y="682200"/>
            <a:ext cx="35838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66560" y="682200"/>
            <a:ext cx="35838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3120" y="2769480"/>
            <a:ext cx="35838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3560"/>
            <a:ext cx="6356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3120" y="682200"/>
            <a:ext cx="35838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66560" y="682200"/>
            <a:ext cx="35838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66560" y="2769480"/>
            <a:ext cx="35838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3560"/>
            <a:ext cx="6356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3120" y="682200"/>
            <a:ext cx="35838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66560" y="682200"/>
            <a:ext cx="35838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3120" y="2769480"/>
            <a:ext cx="73440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图片1"/>
          <p:cNvPicPr/>
          <p:nvPr/>
        </p:nvPicPr>
        <p:blipFill>
          <a:blip r:embed="rId3"/>
          <a:stretch/>
        </p:blipFill>
        <p:spPr>
          <a:xfrm>
            <a:off x="3240" y="0"/>
            <a:ext cx="916452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88560"/>
            <a:ext cx="63561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3120" y="682200"/>
            <a:ext cx="73440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1" marL="343080" indent="-343080">
              <a:lnSpc>
                <a:spcPts val="25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2" marL="343080" indent="-343080">
              <a:lnSpc>
                <a:spcPts val="25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3" marL="343080" indent="-343080">
              <a:lnSpc>
                <a:spcPts val="25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343080" indent="-343080">
              <a:lnSpc>
                <a:spcPts val="25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5" marL="343080" indent="-343080">
              <a:lnSpc>
                <a:spcPts val="25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6" marL="343080" indent="-343080">
              <a:lnSpc>
                <a:spcPts val="25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3" name="图片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164200"/>
          </a:xfrm>
          <a:prstGeom prst="rect">
            <a:avLst/>
          </a:prstGeom>
          <a:ln w="0">
            <a:noFill/>
          </a:ln>
        </p:spPr>
      </p:pic>
      <p:pic>
        <p:nvPicPr>
          <p:cNvPr id="4" name="图片 1" descr=""/>
          <p:cNvPicPr/>
          <p:nvPr/>
        </p:nvPicPr>
        <p:blipFill>
          <a:blip r:embed="rId5"/>
          <a:stretch/>
        </p:blipFill>
        <p:spPr>
          <a:xfrm>
            <a:off x="0" y="544680"/>
            <a:ext cx="9144000" cy="4619520"/>
          </a:xfrm>
          <a:prstGeom prst="rect">
            <a:avLst/>
          </a:prstGeom>
          <a:ln w="0">
            <a:noFill/>
          </a:ln>
        </p:spPr>
      </p:pic>
      <p:pic>
        <p:nvPicPr>
          <p:cNvPr id="5" name="图片 10" descr=""/>
          <p:cNvPicPr/>
          <p:nvPr/>
        </p:nvPicPr>
        <p:blipFill>
          <a:blip r:embed="rId6"/>
          <a:stretch/>
        </p:blipFill>
        <p:spPr>
          <a:xfrm>
            <a:off x="7940520" y="-20520"/>
            <a:ext cx="1168560" cy="539640"/>
          </a:xfrm>
          <a:prstGeom prst="rect">
            <a:avLst/>
          </a:prstGeom>
          <a:ln w="0">
            <a:noFill/>
          </a:ln>
        </p:spPr>
      </p:pic>
      <p:pic>
        <p:nvPicPr>
          <p:cNvPr id="6" name="图片 8" descr=""/>
          <p:cNvPicPr/>
          <p:nvPr/>
        </p:nvPicPr>
        <p:blipFill>
          <a:blip r:embed="rId7"/>
          <a:stretch/>
        </p:blipFill>
        <p:spPr>
          <a:xfrm>
            <a:off x="200160" y="77760"/>
            <a:ext cx="668160" cy="500040"/>
          </a:xfrm>
          <a:prstGeom prst="rect">
            <a:avLst/>
          </a:prstGeom>
          <a:ln w="0">
            <a:noFill/>
          </a:ln>
        </p:spPr>
      </p:pic>
      <p:pic>
        <p:nvPicPr>
          <p:cNvPr id="7" name="图片 1" descr=""/>
          <p:cNvPicPr/>
          <p:nvPr/>
        </p:nvPicPr>
        <p:blipFill>
          <a:blip r:embed="rId8"/>
          <a:stretch/>
        </p:blipFill>
        <p:spPr>
          <a:xfrm>
            <a:off x="8086680" y="4030560"/>
            <a:ext cx="876240" cy="9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9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2495520" y="205884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微软雅黑"/>
                <a:ea typeface="微软雅黑"/>
              </a:rPr>
              <a:t>数学运算 秒杀 我也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图片 6" descr=""/>
          <p:cNvPicPr/>
          <p:nvPr/>
        </p:nvPicPr>
        <p:blipFill>
          <a:blip r:embed="rId2"/>
          <a:stretch/>
        </p:blipFill>
        <p:spPr>
          <a:xfrm>
            <a:off x="3564000" y="3059280"/>
            <a:ext cx="2090520" cy="304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780000" y="306540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讲老师：杨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图片 8" descr=""/>
          <p:cNvPicPr/>
          <p:nvPr/>
        </p:nvPicPr>
        <p:blipFill>
          <a:blip r:embed="rId3"/>
          <a:stretch/>
        </p:blipFill>
        <p:spPr>
          <a:xfrm>
            <a:off x="1908000" y="1131840"/>
            <a:ext cx="1175040" cy="542880"/>
          </a:xfrm>
          <a:prstGeom prst="rect">
            <a:avLst/>
          </a:prstGeom>
          <a:ln w="0">
            <a:noFill/>
          </a:ln>
        </p:spPr>
      </p:pic>
      <p:sp>
        <p:nvSpPr>
          <p:cNvPr id="56" name="TextBox 11"/>
          <p:cNvSpPr/>
          <p:nvPr/>
        </p:nvSpPr>
        <p:spPr>
          <a:xfrm>
            <a:off x="2314440" y="3508200"/>
            <a:ext cx="46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2015</a:t>
            </a:r>
            <a:r>
              <a:rPr b="1" lang="zh-CN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10</a:t>
            </a:r>
            <a:r>
              <a:rPr b="1" lang="zh-CN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16</a:t>
            </a:r>
            <a:r>
              <a:rPr b="1" lang="zh-CN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日</a:t>
            </a:r>
            <a:r>
              <a:rPr b="1" lang="en-US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19</a:t>
            </a:r>
            <a:r>
              <a:rPr b="1" lang="zh-CN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00   YY</a:t>
            </a:r>
            <a:r>
              <a:rPr b="1" lang="zh-CN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频道：</a:t>
            </a:r>
            <a:r>
              <a:rPr b="1" lang="en-US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4911732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图片 2" descr=""/>
          <p:cNvPicPr/>
          <p:nvPr/>
        </p:nvPicPr>
        <p:blipFill>
          <a:blip r:embed="rId4"/>
          <a:stretch/>
        </p:blipFill>
        <p:spPr>
          <a:xfrm>
            <a:off x="8101080" y="4033800"/>
            <a:ext cx="86832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文本占位符 2"/>
          <p:cNvSpPr/>
          <p:nvPr/>
        </p:nvSpPr>
        <p:spPr>
          <a:xfrm>
            <a:off x="39528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324000" y="987480"/>
            <a:ext cx="7704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一辆车从甲地开往乙地，如果提速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可以比原定时间提前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时到达，如果以原速行驶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千米后，再将速度的最高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则可提前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到达。问甲乙两地相距多少千米？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3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27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2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24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直接连接符 5"/>
          <p:cNvSpPr/>
          <p:nvPr/>
        </p:nvSpPr>
        <p:spPr>
          <a:xfrm>
            <a:off x="2362320" y="3406680"/>
            <a:ext cx="1831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组合 1"/>
          <p:cNvGrpSpPr/>
          <p:nvPr/>
        </p:nvGrpSpPr>
        <p:grpSpPr>
          <a:xfrm>
            <a:off x="2362320" y="2806560"/>
            <a:ext cx="3470040" cy="792360"/>
            <a:chOff x="2362320" y="2806560"/>
            <a:chExt cx="3470040" cy="792360"/>
          </a:xfrm>
        </p:grpSpPr>
        <p:sp>
          <p:nvSpPr>
            <p:cNvPr id="97" name="直接连接符 6"/>
            <p:cNvSpPr/>
            <p:nvPr/>
          </p:nvSpPr>
          <p:spPr>
            <a:xfrm>
              <a:off x="2362320" y="3065400"/>
              <a:ext cx="3470040" cy="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直接连接符 7"/>
            <p:cNvSpPr/>
            <p:nvPr/>
          </p:nvSpPr>
          <p:spPr>
            <a:xfrm>
              <a:off x="2362320" y="2806560"/>
              <a:ext cx="0" cy="792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直接连接符 8"/>
            <p:cNvSpPr/>
            <p:nvPr/>
          </p:nvSpPr>
          <p:spPr>
            <a:xfrm>
              <a:off x="5832360" y="2833560"/>
              <a:ext cx="0" cy="738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直接连接符 9"/>
          <p:cNvSpPr/>
          <p:nvPr/>
        </p:nvSpPr>
        <p:spPr>
          <a:xfrm flipV="1">
            <a:off x="4194000" y="3387240"/>
            <a:ext cx="1643400" cy="19080"/>
          </a:xfrm>
          <a:prstGeom prst="line">
            <a:avLst/>
          </a:prstGeom>
          <a:ln w="442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9640" y="123480"/>
            <a:ext cx="635652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92830"/>
                </a:solidFill>
                <a:latin typeface="微软雅黑"/>
              </a:rPr>
              <a:t>步知公考四份礼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2" name="MH_Other_1"/>
          <p:cNvSpPr/>
          <p:nvPr/>
        </p:nvSpPr>
        <p:spPr>
          <a:xfrm rot="21439200">
            <a:off x="2359080" y="3360240"/>
            <a:ext cx="969840" cy="735120"/>
          </a:xfrm>
          <a:prstGeom prst="roundRect">
            <a:avLst>
              <a:gd name="adj" fmla="val 18565"/>
            </a:avLst>
          </a:prstGeom>
          <a:solidFill>
            <a:srgbClr val="d3d3d3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54952"/>
                </a:solidFill>
                <a:latin typeface="微软雅黑"/>
                <a:ea typeface="微软雅黑"/>
              </a:rPr>
              <a:t>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3" name="MH_Other_2"/>
          <p:cNvCxnSpPr/>
          <p:nvPr/>
        </p:nvCxnSpPr>
        <p:spPr>
          <a:xfrm>
            <a:off x="3350880" y="3723840"/>
            <a:ext cx="1166040" cy="1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04" name="MH_Other_3"/>
          <p:cNvSpPr/>
          <p:nvPr/>
        </p:nvSpPr>
        <p:spPr>
          <a:xfrm rot="21439200">
            <a:off x="2584440" y="2639520"/>
            <a:ext cx="969840" cy="736560"/>
          </a:xfrm>
          <a:prstGeom prst="roundRect">
            <a:avLst>
              <a:gd name="adj" fmla="val 18565"/>
            </a:avLst>
          </a:prstGeom>
          <a:solidFill>
            <a:srgbClr val="d3d3d3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54952"/>
                </a:solidFill>
                <a:latin typeface="微软雅黑"/>
                <a:ea typeface="微软雅黑"/>
              </a:rPr>
              <a:t>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5" name="MH_Other_4"/>
          <p:cNvCxnSpPr/>
          <p:nvPr/>
        </p:nvCxnSpPr>
        <p:spPr>
          <a:xfrm>
            <a:off x="3552480" y="2809440"/>
            <a:ext cx="1166040" cy="1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06" name="MH_Other_5"/>
          <p:cNvSpPr/>
          <p:nvPr/>
        </p:nvSpPr>
        <p:spPr>
          <a:xfrm rot="21439200">
            <a:off x="2230560" y="1926720"/>
            <a:ext cx="969840" cy="735120"/>
          </a:xfrm>
          <a:prstGeom prst="roundRect">
            <a:avLst>
              <a:gd name="adj" fmla="val 18565"/>
            </a:avLst>
          </a:prstGeom>
          <a:solidFill>
            <a:srgbClr val="d3d3d3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54952"/>
                </a:solidFill>
                <a:latin typeface="微软雅黑"/>
                <a:ea typeface="微软雅黑"/>
              </a:rPr>
              <a:t>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MH_Other_6"/>
          <p:cNvCxnSpPr/>
          <p:nvPr/>
        </p:nvCxnSpPr>
        <p:spPr>
          <a:xfrm>
            <a:off x="3191040" y="2080800"/>
            <a:ext cx="1165680" cy="1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08" name="MH_Other_7"/>
          <p:cNvSpPr/>
          <p:nvPr/>
        </p:nvSpPr>
        <p:spPr>
          <a:xfrm rot="21116400">
            <a:off x="1909440" y="1203480"/>
            <a:ext cx="969840" cy="734760"/>
          </a:xfrm>
          <a:prstGeom prst="roundRect">
            <a:avLst>
              <a:gd name="adj" fmla="val 18565"/>
            </a:avLst>
          </a:prstGeom>
          <a:solidFill>
            <a:srgbClr val="bbe0e3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54952"/>
                </a:solidFill>
                <a:latin typeface="微软雅黑"/>
                <a:ea typeface="微软雅黑"/>
              </a:rPr>
              <a:t>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9" name="MH_Other_8"/>
          <p:cNvCxnSpPr/>
          <p:nvPr/>
        </p:nvCxnSpPr>
        <p:spPr>
          <a:xfrm>
            <a:off x="2838600" y="1282320"/>
            <a:ext cx="1165680" cy="1080"/>
          </a:xfrm>
          <a:prstGeom prst="straightConnector1">
            <a:avLst/>
          </a:prstGeom>
          <a:ln w="9360">
            <a:solidFill>
              <a:srgbClr val="bbe0e3"/>
            </a:solidFill>
            <a:miter/>
            <a:tailEnd len="med" type="triangle" w="med"/>
          </a:ln>
        </p:spPr>
      </p:cxnSp>
      <p:sp>
        <p:nvSpPr>
          <p:cNvPr id="110" name="MH_Other_9"/>
          <p:cNvSpPr/>
          <p:nvPr/>
        </p:nvSpPr>
        <p:spPr>
          <a:xfrm>
            <a:off x="684360" y="1652760"/>
            <a:ext cx="1569960" cy="2423880"/>
          </a:xfrm>
          <a:custGeom>
            <a:avLst/>
            <a:gdLst/>
            <a:ahLst/>
            <a:rect l="l" t="t" r="r" b="b"/>
            <a:pathLst>
              <a:path w="1570676" h="3230989">
                <a:moveTo>
                  <a:pt x="353236" y="0"/>
                </a:moveTo>
                <a:cubicBezTo>
                  <a:pt x="547001" y="0"/>
                  <a:pt x="704078" y="157077"/>
                  <a:pt x="704078" y="350842"/>
                </a:cubicBezTo>
                <a:cubicBezTo>
                  <a:pt x="704078" y="375063"/>
                  <a:pt x="701624" y="398710"/>
                  <a:pt x="696950" y="421549"/>
                </a:cubicBezTo>
                <a:lnTo>
                  <a:pt x="693971" y="431148"/>
                </a:lnTo>
                <a:lnTo>
                  <a:pt x="1124583" y="115308"/>
                </a:lnTo>
                <a:cubicBezTo>
                  <a:pt x="1143090" y="101733"/>
                  <a:pt x="1169099" y="105732"/>
                  <a:pt x="1182673" y="124239"/>
                </a:cubicBezTo>
                <a:lnTo>
                  <a:pt x="1280987" y="258279"/>
                </a:lnTo>
                <a:cubicBezTo>
                  <a:pt x="1294562" y="276786"/>
                  <a:pt x="1290563" y="302795"/>
                  <a:pt x="1272055" y="316369"/>
                </a:cubicBezTo>
                <a:lnTo>
                  <a:pt x="737572" y="708396"/>
                </a:lnTo>
                <a:lnTo>
                  <a:pt x="1421618" y="295118"/>
                </a:lnTo>
                <a:cubicBezTo>
                  <a:pt x="1441269" y="283246"/>
                  <a:pt x="1466824" y="289552"/>
                  <a:pt x="1478696" y="309203"/>
                </a:cubicBezTo>
                <a:lnTo>
                  <a:pt x="1564680" y="451522"/>
                </a:lnTo>
                <a:cubicBezTo>
                  <a:pt x="1576553" y="471173"/>
                  <a:pt x="1570247" y="496728"/>
                  <a:pt x="1550596" y="508600"/>
                </a:cubicBezTo>
                <a:lnTo>
                  <a:pt x="625846" y="1067303"/>
                </a:lnTo>
                <a:lnTo>
                  <a:pt x="625846" y="1840572"/>
                </a:lnTo>
                <a:lnTo>
                  <a:pt x="621798" y="1860622"/>
                </a:lnTo>
                <a:lnTo>
                  <a:pt x="630588" y="1874274"/>
                </a:lnTo>
                <a:lnTo>
                  <a:pt x="719607" y="2101869"/>
                </a:lnTo>
                <a:lnTo>
                  <a:pt x="724451" y="2103875"/>
                </a:lnTo>
                <a:cubicBezTo>
                  <a:pt x="732921" y="2112345"/>
                  <a:pt x="738159" y="2124045"/>
                  <a:pt x="738159" y="2136968"/>
                </a:cubicBezTo>
                <a:lnTo>
                  <a:pt x="738159" y="3173493"/>
                </a:lnTo>
                <a:cubicBezTo>
                  <a:pt x="738159" y="3199340"/>
                  <a:pt x="717205" y="3220294"/>
                  <a:pt x="691358" y="3220294"/>
                </a:cubicBezTo>
                <a:lnTo>
                  <a:pt x="504158" y="3220294"/>
                </a:lnTo>
                <a:cubicBezTo>
                  <a:pt x="478311" y="3220294"/>
                  <a:pt x="457357" y="3199340"/>
                  <a:pt x="457357" y="3173493"/>
                </a:cubicBezTo>
                <a:lnTo>
                  <a:pt x="457357" y="2183074"/>
                </a:lnTo>
                <a:lnTo>
                  <a:pt x="375586" y="1974012"/>
                </a:lnTo>
                <a:lnTo>
                  <a:pt x="370477" y="1944882"/>
                </a:lnTo>
                <a:lnTo>
                  <a:pt x="280842" y="1944882"/>
                </a:lnTo>
                <a:lnTo>
                  <a:pt x="280842" y="3185353"/>
                </a:lnTo>
                <a:cubicBezTo>
                  <a:pt x="280842" y="3210557"/>
                  <a:pt x="260410" y="3230989"/>
                  <a:pt x="235206" y="3230989"/>
                </a:cubicBezTo>
                <a:lnTo>
                  <a:pt x="52665" y="3230989"/>
                </a:lnTo>
                <a:cubicBezTo>
                  <a:pt x="27461" y="3230989"/>
                  <a:pt x="7029" y="3210557"/>
                  <a:pt x="7029" y="3185353"/>
                </a:cubicBezTo>
                <a:lnTo>
                  <a:pt x="7029" y="1902195"/>
                </a:lnTo>
                <a:lnTo>
                  <a:pt x="10564" y="1884685"/>
                </a:lnTo>
                <a:lnTo>
                  <a:pt x="8197" y="1881174"/>
                </a:lnTo>
                <a:cubicBezTo>
                  <a:pt x="2919" y="1868695"/>
                  <a:pt x="0" y="1854975"/>
                  <a:pt x="0" y="1840572"/>
                </a:cubicBezTo>
                <a:lnTo>
                  <a:pt x="0" y="836612"/>
                </a:lnTo>
                <a:cubicBezTo>
                  <a:pt x="0" y="779003"/>
                  <a:pt x="46701" y="732302"/>
                  <a:pt x="104310" y="732302"/>
                </a:cubicBezTo>
                <a:lnTo>
                  <a:pt x="283381" y="732302"/>
                </a:lnTo>
                <a:lnTo>
                  <a:pt x="331193" y="697234"/>
                </a:lnTo>
                <a:lnTo>
                  <a:pt x="216672" y="674113"/>
                </a:lnTo>
                <a:cubicBezTo>
                  <a:pt x="90750" y="620853"/>
                  <a:pt x="2394" y="496166"/>
                  <a:pt x="2394" y="350842"/>
                </a:cubicBezTo>
                <a:cubicBezTo>
                  <a:pt x="2394" y="157077"/>
                  <a:pt x="159471" y="0"/>
                  <a:pt x="353236" y="0"/>
                </a:cubicBez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MH_Text_4"/>
          <p:cNvSpPr/>
          <p:nvPr/>
        </p:nvSpPr>
        <p:spPr>
          <a:xfrm>
            <a:off x="4159080" y="1457280"/>
            <a:ext cx="3486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址：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g.buzhi.com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MH_SubTitle_4"/>
          <p:cNvSpPr/>
          <p:nvPr/>
        </p:nvSpPr>
        <p:spPr>
          <a:xfrm>
            <a:off x="4135320" y="1131840"/>
            <a:ext cx="3510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c000"/>
                </a:solidFill>
                <a:latin typeface="微软雅黑"/>
                <a:ea typeface="微软雅黑"/>
              </a:rPr>
              <a:t>私人定制专属备考方案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MH_Text_3"/>
          <p:cNvSpPr/>
          <p:nvPr/>
        </p:nvSpPr>
        <p:spPr>
          <a:xfrm>
            <a:off x="4521240" y="2224080"/>
            <a:ext cx="3486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址：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g.buzhi.com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MH_SubTitle_3"/>
          <p:cNvSpPr/>
          <p:nvPr/>
        </p:nvSpPr>
        <p:spPr>
          <a:xfrm>
            <a:off x="4497480" y="1898640"/>
            <a:ext cx="3510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注册步知公考学院账号，即送免费学习方案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MH_Text_2"/>
          <p:cNvSpPr/>
          <p:nvPr/>
        </p:nvSpPr>
        <p:spPr>
          <a:xfrm>
            <a:off x="4884840" y="2963880"/>
            <a:ext cx="34844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：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晚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开始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yy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频道：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49117328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详情：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g.buzhi.com/liv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MH_SubTitle_2"/>
          <p:cNvSpPr/>
          <p:nvPr/>
        </p:nvSpPr>
        <p:spPr>
          <a:xfrm>
            <a:off x="4861080" y="2638440"/>
            <a:ext cx="3508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直播课免费听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MH_Text_1"/>
          <p:cNvSpPr/>
          <p:nvPr/>
        </p:nvSpPr>
        <p:spPr>
          <a:xfrm>
            <a:off x="4711680" y="3917880"/>
            <a:ext cx="348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紫册一元领，全科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P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册免费抱回家！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MH_SubTitle_1"/>
          <p:cNvSpPr/>
          <p:nvPr/>
        </p:nvSpPr>
        <p:spPr>
          <a:xfrm>
            <a:off x="4687920" y="3592440"/>
            <a:ext cx="3510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步知公考五册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元领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2" descr=""/>
          <p:cNvPicPr/>
          <p:nvPr/>
        </p:nvPicPr>
        <p:blipFill>
          <a:blip r:embed="rId1"/>
          <a:srcRect l="0" t="0" r="0" b="2532"/>
          <a:stretch/>
        </p:blipFill>
        <p:spPr>
          <a:xfrm>
            <a:off x="-36360" y="-20520"/>
            <a:ext cx="9180360" cy="514332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3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204012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4" descr=""/>
          <p:cNvPicPr/>
          <p:nvPr/>
        </p:nvPicPr>
        <p:blipFill>
          <a:blip r:embed="rId3"/>
          <a:stretch/>
        </p:blipFill>
        <p:spPr>
          <a:xfrm>
            <a:off x="3419640" y="141912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984240" y="3427560"/>
            <a:ext cx="838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从未停止求知的脚步</a:t>
            </a:r>
            <a:r>
              <a:rPr b="0" lang="en-US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……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图片 1" descr=""/>
          <p:cNvPicPr/>
          <p:nvPr/>
        </p:nvPicPr>
        <p:blipFill>
          <a:blip r:embed="rId4"/>
          <a:stretch/>
        </p:blipFill>
        <p:spPr>
          <a:xfrm>
            <a:off x="5940360" y="14191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24" name="矩形 1"/>
          <p:cNvSpPr/>
          <p:nvPr/>
        </p:nvSpPr>
        <p:spPr>
          <a:xfrm>
            <a:off x="3276720" y="816120"/>
            <a:ext cx="2319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关注步知公考学院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矩形 7"/>
          <p:cNvSpPr/>
          <p:nvPr/>
        </p:nvSpPr>
        <p:spPr>
          <a:xfrm>
            <a:off x="5905440" y="839880"/>
            <a:ext cx="2319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关注公考小伙伴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文本占位符 2"/>
          <p:cNvSpPr/>
          <p:nvPr/>
        </p:nvSpPr>
        <p:spPr>
          <a:xfrm>
            <a:off x="324000" y="93600"/>
            <a:ext cx="502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324000" y="98748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某火车站有一、二、三号三个售票窗口，某天一号以外的窗口卖出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6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张票，二号以外的窗口卖出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26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张票，三号以外的窗口卖出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张票。问当天该站共售车票多少张？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1086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98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986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98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文本占位符 2"/>
          <p:cNvSpPr/>
          <p:nvPr/>
        </p:nvSpPr>
        <p:spPr>
          <a:xfrm>
            <a:off x="324000" y="93600"/>
            <a:ext cx="502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324000" y="98748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如图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BCD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一个梯形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中点，直线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E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梯形分成甲、乙两部分，其面积之比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∶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上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下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D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长度之比是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∶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6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∶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∶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∶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图片 5" descr="\"/>
          <p:cNvPicPr/>
          <p:nvPr/>
        </p:nvPicPr>
        <p:blipFill>
          <a:blip r:embed="rId1"/>
          <a:stretch/>
        </p:blipFill>
        <p:spPr>
          <a:xfrm>
            <a:off x="2916360" y="1851120"/>
            <a:ext cx="1609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文本占位符 2"/>
          <p:cNvSpPr/>
          <p:nvPr/>
        </p:nvSpPr>
        <p:spPr>
          <a:xfrm>
            <a:off x="324000" y="93600"/>
            <a:ext cx="502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324000" y="98748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某高校组织了篮球比赛。其中机械学院队、外语学院队、材料学院队和管理学院队被分到同一个小组，每两队之间进行一场比赛且无平局。结果机械学院队赢了管理学院队，且机械学院队、外语学院队和材料学院队胜利的场数相同，则管理学院队胜了多少场？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文本占位符 2"/>
          <p:cNvSpPr/>
          <p:nvPr/>
        </p:nvSpPr>
        <p:spPr>
          <a:xfrm>
            <a:off x="324000" y="93600"/>
            <a:ext cx="502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324000" y="98748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某科室共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，现在需要抽出两个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小组到不同的下级单位检查工作，问共有多少种不同的安排方案？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21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26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42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84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文本占位符 2"/>
          <p:cNvSpPr/>
          <p:nvPr/>
        </p:nvSpPr>
        <p:spPr>
          <a:xfrm>
            <a:off x="324000" y="93600"/>
            <a:ext cx="502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324000" y="98748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某办公室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中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精通德语。如从中任意选出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，其中恰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精通德语的概率是多少？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0.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0.6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0.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0.7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文本占位符 2"/>
          <p:cNvSpPr/>
          <p:nvPr/>
        </p:nvSpPr>
        <p:spPr>
          <a:xfrm>
            <a:off x="324000" y="93600"/>
            <a:ext cx="502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圆角矩形 2"/>
          <p:cNvSpPr/>
          <p:nvPr/>
        </p:nvSpPr>
        <p:spPr>
          <a:xfrm rot="1597200">
            <a:off x="1355760" y="2075040"/>
            <a:ext cx="1655640" cy="504720"/>
          </a:xfrm>
          <a:prstGeom prst="roundRect">
            <a:avLst>
              <a:gd name="adj" fmla="val 16667"/>
            </a:avLst>
          </a:prstGeom>
          <a:solidFill>
            <a:srgbClr val="7bc6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代入排除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圆角矩形 6"/>
          <p:cNvSpPr/>
          <p:nvPr/>
        </p:nvSpPr>
        <p:spPr>
          <a:xfrm rot="19874400">
            <a:off x="3589200" y="2052360"/>
            <a:ext cx="1659240" cy="503280"/>
          </a:xfrm>
          <a:prstGeom prst="roundRect">
            <a:avLst>
              <a:gd name="adj" fmla="val 16667"/>
            </a:avLst>
          </a:prstGeom>
          <a:solidFill>
            <a:srgbClr val="7bc6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圆角矩形 7"/>
          <p:cNvSpPr/>
          <p:nvPr/>
        </p:nvSpPr>
        <p:spPr>
          <a:xfrm rot="19721400">
            <a:off x="1454040" y="3246120"/>
            <a:ext cx="1602000" cy="503280"/>
          </a:xfrm>
          <a:prstGeom prst="roundRect">
            <a:avLst>
              <a:gd name="adj" fmla="val 16667"/>
            </a:avLst>
          </a:prstGeom>
          <a:solidFill>
            <a:srgbClr val="7bc6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圆角矩形 6"/>
          <p:cNvSpPr/>
          <p:nvPr/>
        </p:nvSpPr>
        <p:spPr>
          <a:xfrm rot="1419000">
            <a:off x="3625560" y="3179880"/>
            <a:ext cx="1671480" cy="503280"/>
          </a:xfrm>
          <a:prstGeom prst="roundRect">
            <a:avLst>
              <a:gd name="adj" fmla="val 16667"/>
            </a:avLst>
          </a:prstGeom>
          <a:solidFill>
            <a:srgbClr val="7bc6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尾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椭圆 3"/>
          <p:cNvSpPr/>
          <p:nvPr/>
        </p:nvSpPr>
        <p:spPr>
          <a:xfrm>
            <a:off x="2803680" y="2409840"/>
            <a:ext cx="984240" cy="954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2830"/>
                </a:solidFill>
                <a:latin typeface="微软雅黑"/>
                <a:ea typeface="微软雅黑"/>
              </a:rPr>
              <a:t>猜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椭圆 3"/>
          <p:cNvSpPr/>
          <p:nvPr/>
        </p:nvSpPr>
        <p:spPr>
          <a:xfrm>
            <a:off x="6659640" y="2374920"/>
            <a:ext cx="1152360" cy="1143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础   知识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文本占位符 2"/>
          <p:cNvSpPr/>
          <p:nvPr/>
        </p:nvSpPr>
        <p:spPr>
          <a:xfrm>
            <a:off x="324000" y="93600"/>
            <a:ext cx="502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700360" y="843120"/>
            <a:ext cx="3594240" cy="39877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1042920" y="936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 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148360" y="1746360"/>
            <a:ext cx="1079280" cy="1538280"/>
          </a:xfrm>
          <a:prstGeom prst="rect">
            <a:avLst/>
          </a:prstGeom>
          <a:ln w="0">
            <a:noFill/>
          </a:ln>
        </p:spPr>
      </p:pic>
      <p:sp>
        <p:nvSpPr>
          <p:cNvPr id="59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文本占位符 2"/>
          <p:cNvSpPr/>
          <p:nvPr/>
        </p:nvSpPr>
        <p:spPr>
          <a:xfrm>
            <a:off x="39528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图示 5" descr=""/>
          <p:cNvPicPr/>
          <p:nvPr/>
        </p:nvPicPr>
        <p:blipFill>
          <a:blip r:embed="rId2"/>
          <a:stretch/>
        </p:blipFill>
        <p:spPr>
          <a:xfrm>
            <a:off x="1127160" y="1768320"/>
            <a:ext cx="3414600" cy="29433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523800" y="660240"/>
            <a:ext cx="40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备考须知 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三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图片 1" descr=""/>
          <p:cNvPicPr/>
          <p:nvPr/>
        </p:nvPicPr>
        <p:blipFill>
          <a:blip r:embed="rId3"/>
          <a:srcRect l="-4913" t="-27369" r="-4913" b="-27369"/>
          <a:stretch/>
        </p:blipFill>
        <p:spPr>
          <a:xfrm rot="475200">
            <a:off x="5486400" y="2868120"/>
            <a:ext cx="23479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23480"/>
            <a:ext cx="635652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92830"/>
                </a:solidFill>
                <a:latin typeface="微软雅黑"/>
              </a:rPr>
              <a:t>步知公考四份礼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5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MH_Other_1"/>
          <p:cNvSpPr/>
          <p:nvPr/>
        </p:nvSpPr>
        <p:spPr>
          <a:xfrm rot="21439200">
            <a:off x="2359080" y="3360240"/>
            <a:ext cx="969840" cy="735120"/>
          </a:xfrm>
          <a:prstGeom prst="roundRect">
            <a:avLst>
              <a:gd name="adj" fmla="val 18565"/>
            </a:avLst>
          </a:prstGeom>
          <a:solidFill>
            <a:srgbClr val="d3d3d3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54952"/>
                </a:solidFill>
                <a:latin typeface="微软雅黑"/>
                <a:ea typeface="微软雅黑"/>
              </a:rPr>
              <a:t>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MH_Other_2"/>
          <p:cNvCxnSpPr/>
          <p:nvPr/>
        </p:nvCxnSpPr>
        <p:spPr>
          <a:xfrm>
            <a:off x="3350880" y="3723840"/>
            <a:ext cx="1166040" cy="1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58" name="MH_Other_3"/>
          <p:cNvSpPr/>
          <p:nvPr/>
        </p:nvSpPr>
        <p:spPr>
          <a:xfrm rot="21439200">
            <a:off x="2584440" y="2639520"/>
            <a:ext cx="969840" cy="736560"/>
          </a:xfrm>
          <a:prstGeom prst="roundRect">
            <a:avLst>
              <a:gd name="adj" fmla="val 18565"/>
            </a:avLst>
          </a:prstGeom>
          <a:solidFill>
            <a:srgbClr val="d3d3d3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54952"/>
                </a:solidFill>
                <a:latin typeface="微软雅黑"/>
                <a:ea typeface="微软雅黑"/>
              </a:rPr>
              <a:t>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MH_Other_4"/>
          <p:cNvCxnSpPr/>
          <p:nvPr/>
        </p:nvCxnSpPr>
        <p:spPr>
          <a:xfrm>
            <a:off x="3552480" y="2809440"/>
            <a:ext cx="1166040" cy="1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60" name="MH_Other_5"/>
          <p:cNvSpPr/>
          <p:nvPr/>
        </p:nvSpPr>
        <p:spPr>
          <a:xfrm rot="21439200">
            <a:off x="2230560" y="1926720"/>
            <a:ext cx="969840" cy="735120"/>
          </a:xfrm>
          <a:prstGeom prst="roundRect">
            <a:avLst>
              <a:gd name="adj" fmla="val 18565"/>
            </a:avLst>
          </a:prstGeom>
          <a:solidFill>
            <a:srgbClr val="d3d3d3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54952"/>
                </a:solidFill>
                <a:latin typeface="微软雅黑"/>
                <a:ea typeface="微软雅黑"/>
              </a:rPr>
              <a:t>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MH_Other_6"/>
          <p:cNvCxnSpPr/>
          <p:nvPr/>
        </p:nvCxnSpPr>
        <p:spPr>
          <a:xfrm>
            <a:off x="3191040" y="2080800"/>
            <a:ext cx="1165680" cy="1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62" name="MH_Other_7"/>
          <p:cNvSpPr/>
          <p:nvPr/>
        </p:nvSpPr>
        <p:spPr>
          <a:xfrm rot="21116400">
            <a:off x="1909440" y="1203480"/>
            <a:ext cx="969840" cy="734760"/>
          </a:xfrm>
          <a:prstGeom prst="roundRect">
            <a:avLst>
              <a:gd name="adj" fmla="val 18565"/>
            </a:avLst>
          </a:prstGeom>
          <a:solidFill>
            <a:srgbClr val="bbe0e3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54952"/>
                </a:solidFill>
                <a:latin typeface="微软雅黑"/>
                <a:ea typeface="微软雅黑"/>
              </a:rPr>
              <a:t>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MH_Other_8"/>
          <p:cNvCxnSpPr/>
          <p:nvPr/>
        </p:nvCxnSpPr>
        <p:spPr>
          <a:xfrm>
            <a:off x="2838600" y="1282320"/>
            <a:ext cx="1165680" cy="1080"/>
          </a:xfrm>
          <a:prstGeom prst="straightConnector1">
            <a:avLst/>
          </a:prstGeom>
          <a:ln w="9360">
            <a:solidFill>
              <a:srgbClr val="bbe0e3"/>
            </a:solidFill>
            <a:miter/>
            <a:tailEnd len="med" type="triangle" w="med"/>
          </a:ln>
        </p:spPr>
      </p:cxnSp>
      <p:sp>
        <p:nvSpPr>
          <p:cNvPr id="164" name="MH_Other_9"/>
          <p:cNvSpPr/>
          <p:nvPr/>
        </p:nvSpPr>
        <p:spPr>
          <a:xfrm>
            <a:off x="684360" y="1652760"/>
            <a:ext cx="1569960" cy="2423880"/>
          </a:xfrm>
          <a:custGeom>
            <a:avLst/>
            <a:gdLst/>
            <a:ahLst/>
            <a:rect l="l" t="t" r="r" b="b"/>
            <a:pathLst>
              <a:path w="1570676" h="3230989">
                <a:moveTo>
                  <a:pt x="353236" y="0"/>
                </a:moveTo>
                <a:cubicBezTo>
                  <a:pt x="547001" y="0"/>
                  <a:pt x="704078" y="157077"/>
                  <a:pt x="704078" y="350842"/>
                </a:cubicBezTo>
                <a:cubicBezTo>
                  <a:pt x="704078" y="375063"/>
                  <a:pt x="701624" y="398710"/>
                  <a:pt x="696950" y="421549"/>
                </a:cubicBezTo>
                <a:lnTo>
                  <a:pt x="693971" y="431148"/>
                </a:lnTo>
                <a:lnTo>
                  <a:pt x="1124583" y="115308"/>
                </a:lnTo>
                <a:cubicBezTo>
                  <a:pt x="1143090" y="101733"/>
                  <a:pt x="1169099" y="105732"/>
                  <a:pt x="1182673" y="124239"/>
                </a:cubicBezTo>
                <a:lnTo>
                  <a:pt x="1280987" y="258279"/>
                </a:lnTo>
                <a:cubicBezTo>
                  <a:pt x="1294562" y="276786"/>
                  <a:pt x="1290563" y="302795"/>
                  <a:pt x="1272055" y="316369"/>
                </a:cubicBezTo>
                <a:lnTo>
                  <a:pt x="737572" y="708396"/>
                </a:lnTo>
                <a:lnTo>
                  <a:pt x="1421618" y="295118"/>
                </a:lnTo>
                <a:cubicBezTo>
                  <a:pt x="1441269" y="283246"/>
                  <a:pt x="1466824" y="289552"/>
                  <a:pt x="1478696" y="309203"/>
                </a:cubicBezTo>
                <a:lnTo>
                  <a:pt x="1564680" y="451522"/>
                </a:lnTo>
                <a:cubicBezTo>
                  <a:pt x="1576553" y="471173"/>
                  <a:pt x="1570247" y="496728"/>
                  <a:pt x="1550596" y="508600"/>
                </a:cubicBezTo>
                <a:lnTo>
                  <a:pt x="625846" y="1067303"/>
                </a:lnTo>
                <a:lnTo>
                  <a:pt x="625846" y="1840572"/>
                </a:lnTo>
                <a:lnTo>
                  <a:pt x="621798" y="1860622"/>
                </a:lnTo>
                <a:lnTo>
                  <a:pt x="630588" y="1874274"/>
                </a:lnTo>
                <a:lnTo>
                  <a:pt x="719607" y="2101869"/>
                </a:lnTo>
                <a:lnTo>
                  <a:pt x="724451" y="2103875"/>
                </a:lnTo>
                <a:cubicBezTo>
                  <a:pt x="732921" y="2112345"/>
                  <a:pt x="738159" y="2124045"/>
                  <a:pt x="738159" y="2136968"/>
                </a:cubicBezTo>
                <a:lnTo>
                  <a:pt x="738159" y="3173493"/>
                </a:lnTo>
                <a:cubicBezTo>
                  <a:pt x="738159" y="3199340"/>
                  <a:pt x="717205" y="3220294"/>
                  <a:pt x="691358" y="3220294"/>
                </a:cubicBezTo>
                <a:lnTo>
                  <a:pt x="504158" y="3220294"/>
                </a:lnTo>
                <a:cubicBezTo>
                  <a:pt x="478311" y="3220294"/>
                  <a:pt x="457357" y="3199340"/>
                  <a:pt x="457357" y="3173493"/>
                </a:cubicBezTo>
                <a:lnTo>
                  <a:pt x="457357" y="2183074"/>
                </a:lnTo>
                <a:lnTo>
                  <a:pt x="375586" y="1974012"/>
                </a:lnTo>
                <a:lnTo>
                  <a:pt x="370477" y="1944882"/>
                </a:lnTo>
                <a:lnTo>
                  <a:pt x="280842" y="1944882"/>
                </a:lnTo>
                <a:lnTo>
                  <a:pt x="280842" y="3185353"/>
                </a:lnTo>
                <a:cubicBezTo>
                  <a:pt x="280842" y="3210557"/>
                  <a:pt x="260410" y="3230989"/>
                  <a:pt x="235206" y="3230989"/>
                </a:cubicBezTo>
                <a:lnTo>
                  <a:pt x="52665" y="3230989"/>
                </a:lnTo>
                <a:cubicBezTo>
                  <a:pt x="27461" y="3230989"/>
                  <a:pt x="7029" y="3210557"/>
                  <a:pt x="7029" y="3185353"/>
                </a:cubicBezTo>
                <a:lnTo>
                  <a:pt x="7029" y="1902195"/>
                </a:lnTo>
                <a:lnTo>
                  <a:pt x="10564" y="1884685"/>
                </a:lnTo>
                <a:lnTo>
                  <a:pt x="8197" y="1881174"/>
                </a:lnTo>
                <a:cubicBezTo>
                  <a:pt x="2919" y="1868695"/>
                  <a:pt x="0" y="1854975"/>
                  <a:pt x="0" y="1840572"/>
                </a:cubicBezTo>
                <a:lnTo>
                  <a:pt x="0" y="836612"/>
                </a:lnTo>
                <a:cubicBezTo>
                  <a:pt x="0" y="779003"/>
                  <a:pt x="46701" y="732302"/>
                  <a:pt x="104310" y="732302"/>
                </a:cubicBezTo>
                <a:lnTo>
                  <a:pt x="283381" y="732302"/>
                </a:lnTo>
                <a:lnTo>
                  <a:pt x="331193" y="697234"/>
                </a:lnTo>
                <a:lnTo>
                  <a:pt x="216672" y="674113"/>
                </a:lnTo>
                <a:cubicBezTo>
                  <a:pt x="90750" y="620853"/>
                  <a:pt x="2394" y="496166"/>
                  <a:pt x="2394" y="350842"/>
                </a:cubicBezTo>
                <a:cubicBezTo>
                  <a:pt x="2394" y="157077"/>
                  <a:pt x="159471" y="0"/>
                  <a:pt x="353236" y="0"/>
                </a:cubicBez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MH_Text_4"/>
          <p:cNvSpPr/>
          <p:nvPr/>
        </p:nvSpPr>
        <p:spPr>
          <a:xfrm>
            <a:off x="4159080" y="1457280"/>
            <a:ext cx="3486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址：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g.buzhi.com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MH_SubTitle_4"/>
          <p:cNvSpPr/>
          <p:nvPr/>
        </p:nvSpPr>
        <p:spPr>
          <a:xfrm>
            <a:off x="4135320" y="1131840"/>
            <a:ext cx="3510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c000"/>
                </a:solidFill>
                <a:latin typeface="微软雅黑"/>
                <a:ea typeface="微软雅黑"/>
              </a:rPr>
              <a:t>私人定制专属备考方案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MH_Text_3"/>
          <p:cNvSpPr/>
          <p:nvPr/>
        </p:nvSpPr>
        <p:spPr>
          <a:xfrm>
            <a:off x="4521240" y="2224080"/>
            <a:ext cx="3486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址：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g.buzhi.com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MH_SubTitle_3"/>
          <p:cNvSpPr/>
          <p:nvPr/>
        </p:nvSpPr>
        <p:spPr>
          <a:xfrm>
            <a:off x="4497480" y="1898640"/>
            <a:ext cx="3510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注册步知公考学院账号，即送免费学习方案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MH_Text_2"/>
          <p:cNvSpPr/>
          <p:nvPr/>
        </p:nvSpPr>
        <p:spPr>
          <a:xfrm>
            <a:off x="4884840" y="2963880"/>
            <a:ext cx="34844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：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晚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开始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yy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频道：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49117328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详情：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g.buzhi.com/liv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MH_SubTitle_2"/>
          <p:cNvSpPr/>
          <p:nvPr/>
        </p:nvSpPr>
        <p:spPr>
          <a:xfrm>
            <a:off x="4861080" y="2638440"/>
            <a:ext cx="3508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直播课免费听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MH_Text_1"/>
          <p:cNvSpPr/>
          <p:nvPr/>
        </p:nvSpPr>
        <p:spPr>
          <a:xfrm>
            <a:off x="4711680" y="3917880"/>
            <a:ext cx="348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紫册一元领，全科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P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册免费抱回家！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MH_SubTitle_1"/>
          <p:cNvSpPr/>
          <p:nvPr/>
        </p:nvSpPr>
        <p:spPr>
          <a:xfrm>
            <a:off x="4687920" y="3592440"/>
            <a:ext cx="3510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步知公考五册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元领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1" descr=""/>
          <p:cNvPicPr/>
          <p:nvPr/>
        </p:nvPicPr>
        <p:blipFill>
          <a:blip r:embed="rId1"/>
          <a:stretch/>
        </p:blipFill>
        <p:spPr>
          <a:xfrm>
            <a:off x="4427640" y="990720"/>
            <a:ext cx="4230720" cy="32302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3" descr=""/>
          <p:cNvPicPr/>
          <p:nvPr/>
        </p:nvPicPr>
        <p:blipFill>
          <a:blip r:embed="rId2"/>
          <a:stretch/>
        </p:blipFill>
        <p:spPr>
          <a:xfrm>
            <a:off x="1042920" y="1492200"/>
            <a:ext cx="2040120" cy="94320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3"/>
          <p:cNvSpPr/>
          <p:nvPr/>
        </p:nvSpPr>
        <p:spPr>
          <a:xfrm>
            <a:off x="263520" y="2782800"/>
            <a:ext cx="41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ttp://www.buzhi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文本占位符 2"/>
          <p:cNvSpPr/>
          <p:nvPr/>
        </p:nvSpPr>
        <p:spPr>
          <a:xfrm>
            <a:off x="39528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4000" y="98748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甲、乙两种商品的价格比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∶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如果它们的价格分析下降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，它们的价格比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∶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这两种商品原来的价格各为（　　）。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3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37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4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52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7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文本占位符 2"/>
          <p:cNvSpPr/>
          <p:nvPr/>
        </p:nvSpPr>
        <p:spPr>
          <a:xfrm>
            <a:off x="39528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324000" y="98748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现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箱子，依次放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球，然后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箱子随机编号为甲、乙、丙，接着在甲、乙、丙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箱子里分别放入其箱内球数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。两次共放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球。最终甲箱中的球比乙箱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少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少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文本占位符 2"/>
          <p:cNvSpPr/>
          <p:nvPr/>
        </p:nvSpPr>
        <p:spPr>
          <a:xfrm>
            <a:off x="39528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324000" y="98748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正整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乘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8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得到一个完全平方数，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最小值是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1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3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6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文本占位符 2"/>
          <p:cNvSpPr/>
          <p:nvPr/>
        </p:nvSpPr>
        <p:spPr>
          <a:xfrm>
            <a:off x="39528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324000" y="98748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有一堆围棋子。白子颗数是黑子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。每次拿出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颗白子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颗黑子，经过若干次后，剩下的白子是黑子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。问原来白子最少有几颗？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3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66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2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文本占位符 2"/>
          <p:cNvSpPr/>
          <p:nvPr/>
        </p:nvSpPr>
        <p:spPr>
          <a:xfrm>
            <a:off x="39528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324000" y="98748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商店促销某种商品，一次购买不超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件，每件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；超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件，超过部分每件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。甲、乙两人分别购买此种商品，甲比乙多付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，则甲、乙共买了多少件？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2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1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文本占位符 2"/>
          <p:cNvSpPr/>
          <p:nvPr/>
        </p:nvSpPr>
        <p:spPr>
          <a:xfrm>
            <a:off x="39528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图片 2" descr=""/>
          <p:cNvPicPr/>
          <p:nvPr/>
        </p:nvPicPr>
        <p:blipFill>
          <a:blip r:embed="rId1"/>
          <a:stretch/>
        </p:blipFill>
        <p:spPr>
          <a:xfrm>
            <a:off x="5724360" y="2217600"/>
            <a:ext cx="1835280" cy="1409760"/>
          </a:xfrm>
          <a:prstGeom prst="rect">
            <a:avLst/>
          </a:prstGeom>
          <a:ln w="0">
            <a:noFill/>
          </a:ln>
        </p:spPr>
      </p:pic>
      <p:grpSp>
        <p:nvGrpSpPr>
          <p:cNvPr id="82" name="组合 5"/>
          <p:cNvGrpSpPr/>
          <p:nvPr/>
        </p:nvGrpSpPr>
        <p:grpSpPr>
          <a:xfrm>
            <a:off x="1074600" y="1428840"/>
            <a:ext cx="4311720" cy="2849400"/>
            <a:chOff x="1074600" y="1428840"/>
            <a:chExt cx="4311720" cy="2849400"/>
          </a:xfrm>
        </p:grpSpPr>
        <p:sp>
          <p:nvSpPr>
            <p:cNvPr id="83" name="矩形 7"/>
            <p:cNvSpPr/>
            <p:nvPr/>
          </p:nvSpPr>
          <p:spPr>
            <a:xfrm>
              <a:off x="1074600" y="2743920"/>
              <a:ext cx="1963800" cy="166320"/>
            </a:xfrm>
            <a:prstGeom prst="rect">
              <a:avLst/>
            </a:prstGeom>
            <a:solidFill>
              <a:srgbClr val="459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" name="图示 8" descr=""/>
            <p:cNvPicPr/>
            <p:nvPr/>
          </p:nvPicPr>
          <p:blipFill>
            <a:blip r:embed="rId2"/>
            <a:stretch/>
          </p:blipFill>
          <p:spPr>
            <a:xfrm>
              <a:off x="1895760" y="1428840"/>
              <a:ext cx="2749320" cy="28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圆角矩形 9"/>
            <p:cNvSpPr/>
            <p:nvPr/>
          </p:nvSpPr>
          <p:spPr>
            <a:xfrm>
              <a:off x="2890800" y="2653560"/>
              <a:ext cx="174600" cy="312120"/>
            </a:xfrm>
            <a:custGeom>
              <a:avLst/>
              <a:gdLst>
                <a:gd name="textAreaLeft" fmla="*/ 8280 w 174600"/>
                <a:gd name="textAreaRight" fmla="*/ 166320 w 174600"/>
                <a:gd name="textAreaTop" fmla="*/ 8280 h 312120"/>
                <a:gd name="textAreaBottom" fmla="*/ 303840 h 312120"/>
              </a:gdLst>
              <a:ahLst/>
              <a:rect l="textAreaLeft" t="textAreaTop" r="textAreaRight" b="textAreaBottom"/>
              <a:pathLst>
                <a:path w="21600" h="38578">
                  <a:moveTo>
                    <a:pt x="3600" y="0"/>
                  </a:moveTo>
                  <a:arcTo wR="3600" hR="3600" stAng="16200000" swAng="-5400000"/>
                  <a:lnTo>
                    <a:pt x="0" y="34978"/>
                  </a:lnTo>
                  <a:arcTo wR="3600" hR="3600" stAng="10800000" swAng="-5400000"/>
                  <a:lnTo>
                    <a:pt x="18000" y="385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圆角矩形 10"/>
            <p:cNvSpPr/>
            <p:nvPr/>
          </p:nvSpPr>
          <p:spPr>
            <a:xfrm>
              <a:off x="4138560" y="2704320"/>
              <a:ext cx="176040" cy="312120"/>
            </a:xfrm>
            <a:custGeom>
              <a:avLst/>
              <a:gdLst>
                <a:gd name="textAreaLeft" fmla="*/ 8280 w 176040"/>
                <a:gd name="textAreaRight" fmla="*/ 167760 w 176040"/>
                <a:gd name="textAreaTop" fmla="*/ 8280 h 312120"/>
                <a:gd name="textAreaBottom" fmla="*/ 303840 h 312120"/>
              </a:gdLst>
              <a:ahLst/>
              <a:rect l="textAreaLeft" t="textAreaTop" r="textAreaRight" b="textAreaBottom"/>
              <a:pathLst>
                <a:path w="21600" h="38263">
                  <a:moveTo>
                    <a:pt x="3600" y="0"/>
                  </a:moveTo>
                  <a:arcTo wR="3600" hR="3600" stAng="16200000" swAng="-5400000"/>
                  <a:lnTo>
                    <a:pt x="0" y="34663"/>
                  </a:lnTo>
                  <a:arcTo wR="3600" hR="3600" stAng="10800000" swAng="-5400000"/>
                  <a:lnTo>
                    <a:pt x="18000" y="382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矩形 11"/>
            <p:cNvSpPr/>
            <p:nvPr/>
          </p:nvSpPr>
          <p:spPr>
            <a:xfrm>
              <a:off x="2947680" y="2743920"/>
              <a:ext cx="358560" cy="166320"/>
            </a:xfrm>
            <a:prstGeom prst="rect">
              <a:avLst/>
            </a:prstGeom>
            <a:solidFill>
              <a:srgbClr val="459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右箭头 14"/>
            <p:cNvSpPr/>
            <p:nvPr/>
          </p:nvSpPr>
          <p:spPr>
            <a:xfrm>
              <a:off x="4226040" y="2686680"/>
              <a:ext cx="1160280" cy="3344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59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文本占位符 2"/>
          <p:cNvSpPr/>
          <p:nvPr/>
        </p:nvSpPr>
        <p:spPr>
          <a:xfrm>
            <a:off x="39528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324000" y="98748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个工程队修建一条马路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可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完成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可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完成，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能比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提前多少天完成？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16/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15/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7/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06:36:53Z</dcterms:created>
  <dc:creator>Administrator</dc:creator>
  <dc:description/>
  <dc:language>en-US</dc:language>
  <cp:lastModifiedBy>Microsoft</cp:lastModifiedBy>
  <dcterms:modified xsi:type="dcterms:W3CDTF">2015-10-20T01:13:31Z</dcterms:modified>
  <cp:revision>1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